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89078-0E9A-4176-BC9F-5C5C92DF0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EC1EE-8FCB-4288-B8A8-2AB1DDB0E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406E2-0F3B-48EB-972E-E670A8E1C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9E803-A830-440B-B4A7-458A699B2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49FC2-7EC6-4302-9BFF-1BDDCB1C8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52E53-2292-405F-896B-9E35583C8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48C0B-CAED-4D0F-822D-5F7121A87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A44D2-2032-4382-B86D-A1278B484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FBB5A-EAC5-40AD-AA84-DF1E451DB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150BA-0FC9-4D67-AD4E-FAEAF7E78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E7F3B-6F4A-4276-9F4C-48BFB6868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066F7-95DC-424C-9041-4B25FDB40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4C18A-B56A-4D65-826B-22311B644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D8735-F9CB-4F01-B781-470E1F2C5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7BF7C-D2D6-4E3C-A960-279ED4B61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718A5-6C5B-4A7E-A559-64B70D3E0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61EFF-B125-4DE1-8F53-9A37C46D7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F3C42-99A8-440C-8498-A4CA72C19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4F053-6464-4E3D-92CE-7B69DF757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3D778-86C3-44F5-AE11-6EA4E001D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4D784-7C45-4978-9D4C-8A19E0D08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99A32-123D-4EBD-8BE5-AAB5F3D8D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35614-9377-4F96-B4FB-18E964698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896EF-EE66-47C3-A986-0F0C9689C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4333E-456A-4F66-BBF7-E86E77202A52}" type="slidenum">
              <a:rPr b="0" lang="en-US" sz="14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4743F-60BC-44F6-B141-5B3CEF64E105}" type="slidenum">
              <a:rPr b="0" lang="en-US" sz="14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saburchill.com/IBbiology/bio_hp.html" TargetMode="External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saburchill.com/IBbiology/bio_hp.html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Arial"/>
              </a:rPr>
              <a:t>PEDIGREE CHARTS</a:t>
            </a:r>
            <a:r>
              <a:rPr b="0" lang="fr-FR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133360" y="3733560"/>
            <a:ext cx="647676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family history of a genetic condi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88880" y="6354720"/>
            <a:ext cx="2171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66"/>
                </a:solidFill>
                <a:latin typeface="Arial"/>
              </a:rPr>
              <a:t>© 2007 Paul Billiet </a:t>
            </a:r>
            <a:r>
              <a:rPr b="0" lang="en-US" sz="1200" spc="-1" strike="noStrike" u="sng">
                <a:solidFill>
                  <a:srgbClr val="006666"/>
                </a:solidFill>
                <a:uFillTx/>
                <a:latin typeface="Arial"/>
                <a:hlinkClick r:id="rId1"/>
              </a:rPr>
              <a:t>ODWS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What is a pedigree chart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10760" y="1904760"/>
            <a:ext cx="8123400" cy="35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edigree charts show a record of the family of an individu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y can be used to study the transmission of a hereditary condi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y are particularly useful when there are large families and a good family record over several generation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88880" y="6354720"/>
            <a:ext cx="2171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66"/>
                </a:solidFill>
                <a:latin typeface="Arial"/>
              </a:rPr>
              <a:t>© 2007 Paul Billiet </a:t>
            </a:r>
            <a:r>
              <a:rPr b="0" lang="en-US" sz="1200" spc="-1" strike="noStrike" u="sng">
                <a:solidFill>
                  <a:srgbClr val="006666"/>
                </a:solidFill>
                <a:uFillTx/>
                <a:latin typeface="Arial"/>
                <a:hlinkClick r:id="rId1"/>
              </a:rPr>
              <a:t>ODWS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tudying human genetic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29720" y="1904760"/>
            <a:ext cx="7804440" cy="42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You cannot make humans of different types breed togeth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edigree charts offer an ethical way of studying human genetic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day genetic engineering has new tools to offer doctors studying genetic disease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genetic counsellor will still use pedigree charts to help determine the distribution of a disease in an affected famil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88880" y="6354720"/>
            <a:ext cx="2171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66"/>
                </a:solidFill>
                <a:latin typeface="Arial"/>
              </a:rPr>
              <a:t>© 2007 Paul Billiet ODWS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Arial"/>
              </a:rPr>
              <a:t>Symbols used in pedigree charts</a:t>
            </a:r>
            <a:r>
              <a:rPr b="0" lang="fr-FR" sz="4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90160" y="1905120"/>
            <a:ext cx="4678200" cy="27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92080" indent="-892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Normal ma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892080" indent="-892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Affected ma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892080" indent="-892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Normal fema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892080" indent="-892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Affected fema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892080" indent="-892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Marriag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4273560" y="1628640"/>
            <a:ext cx="4546440" cy="3689280"/>
            <a:chOff x="4273560" y="1628640"/>
            <a:chExt cx="4546440" cy="3689280"/>
          </a:xfrm>
        </p:grpSpPr>
        <p:grpSp>
          <p:nvGrpSpPr>
            <p:cNvPr id="102" name=""/>
            <p:cNvGrpSpPr/>
            <p:nvPr/>
          </p:nvGrpSpPr>
          <p:grpSpPr>
            <a:xfrm>
              <a:off x="5187240" y="3062160"/>
              <a:ext cx="2544840" cy="1386360"/>
              <a:chOff x="5187240" y="3062160"/>
              <a:chExt cx="2544840" cy="1386360"/>
            </a:xfrm>
          </p:grpSpPr>
          <p:sp>
            <p:nvSpPr>
              <p:cNvPr id="103" name=""/>
              <p:cNvSpPr/>
              <p:nvPr/>
            </p:nvSpPr>
            <p:spPr>
              <a:xfrm>
                <a:off x="6264000" y="3214440"/>
                <a:ext cx="399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5342040" y="3711960"/>
                <a:ext cx="226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6474960" y="3225960"/>
                <a:ext cx="0" cy="486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5331240" y="3699360"/>
                <a:ext cx="0" cy="486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5920920" y="3723480"/>
                <a:ext cx="0" cy="486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6476040" y="3711960"/>
                <a:ext cx="0" cy="486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032240" y="3718080"/>
                <a:ext cx="0" cy="486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7586280" y="3723480"/>
                <a:ext cx="0" cy="486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431840" y="4114080"/>
                <a:ext cx="300240" cy="29412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5187240" y="4137840"/>
                <a:ext cx="299880" cy="2944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319080" y="4119120"/>
                <a:ext cx="300240" cy="329400"/>
              </a:xfrm>
              <a:prstGeom prst="rect">
                <a:avLst/>
              </a:prstGeom>
              <a:solidFill>
                <a:srgbClr val="00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6882120" y="4114080"/>
                <a:ext cx="299880" cy="3294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749920" y="4115160"/>
                <a:ext cx="300240" cy="3297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968800" y="3062160"/>
                <a:ext cx="299880" cy="3294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6653160" y="3078720"/>
                <a:ext cx="300240" cy="29412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</p:grpSp>
        <p:sp>
          <p:nvSpPr>
            <p:cNvPr id="118" name=""/>
            <p:cNvSpPr/>
            <p:nvPr/>
          </p:nvSpPr>
          <p:spPr>
            <a:xfrm>
              <a:off x="4273560" y="1628640"/>
              <a:ext cx="4546440" cy="12326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336666"/>
                  </a:solidFill>
                  <a:latin typeface="Arial Unicode MS"/>
                </a:rPr>
                <a:t>A marriage with five children, two daughters and three sons. The eldest son is affected by the condition.</a:t>
              </a:r>
              <a:endParaRPr b="0" lang="en-US" sz="20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712040" y="4745880"/>
              <a:ext cx="3846960" cy="572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336666"/>
                  </a:solidFill>
                  <a:latin typeface="Arial Unicode MS"/>
                </a:rPr>
                <a:t>Eldest child </a:t>
              </a:r>
              <a:r>
                <a:rPr b="0" lang="fr-FR" sz="2000" spc="-1" strike="noStrike">
                  <a:solidFill>
                    <a:srgbClr val="336666"/>
                  </a:solidFill>
                  <a:latin typeface="Symbol"/>
                  <a:ea typeface="Symbol"/>
                </a:rPr>
                <a:t></a:t>
              </a:r>
              <a:r>
                <a:rPr b="0" lang="fr-FR" sz="2000" spc="-1" strike="noStrike">
                  <a:solidFill>
                    <a:srgbClr val="336666"/>
                  </a:solidFill>
                  <a:latin typeface="Arial Unicode MS"/>
                </a:rPr>
                <a:t> Youngest child</a:t>
              </a:r>
              <a:endParaRPr b="0" lang="en-US" sz="2000" spc="-1" strike="noStrike">
                <a:solidFill>
                  <a:srgbClr val="336666"/>
                </a:solidFill>
                <a:latin typeface="Arial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836640" y="1974960"/>
            <a:ext cx="1004400" cy="2404440"/>
            <a:chOff x="836640" y="1974960"/>
            <a:chExt cx="1004400" cy="2404440"/>
          </a:xfrm>
        </p:grpSpPr>
        <p:sp>
          <p:nvSpPr>
            <p:cNvPr id="121" name=""/>
            <p:cNvSpPr/>
            <p:nvPr/>
          </p:nvSpPr>
          <p:spPr>
            <a:xfrm>
              <a:off x="847800" y="1974960"/>
              <a:ext cx="360360" cy="3603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844560" y="2487600"/>
              <a:ext cx="360360" cy="36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836640" y="3019320"/>
              <a:ext cx="360360" cy="3603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852480" y="3524400"/>
              <a:ext cx="360360" cy="360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grpSp>
          <p:nvGrpSpPr>
            <p:cNvPr id="125" name=""/>
            <p:cNvGrpSpPr/>
            <p:nvPr/>
          </p:nvGrpSpPr>
          <p:grpSpPr>
            <a:xfrm>
              <a:off x="853920" y="4017960"/>
              <a:ext cx="987120" cy="361440"/>
              <a:chOff x="853920" y="4017960"/>
              <a:chExt cx="987120" cy="361440"/>
            </a:xfrm>
          </p:grpSpPr>
          <p:sp>
            <p:nvSpPr>
              <p:cNvPr id="126" name=""/>
              <p:cNvSpPr/>
              <p:nvPr/>
            </p:nvSpPr>
            <p:spPr>
              <a:xfrm>
                <a:off x="1142640" y="4194720"/>
                <a:ext cx="436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853920" y="4017960"/>
                <a:ext cx="352800" cy="35532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1505160" y="4024080"/>
                <a:ext cx="335880" cy="35532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</p:grpSp>
      </p:grpSp>
      <p:sp>
        <p:nvSpPr>
          <p:cNvPr id="129" name=""/>
          <p:cNvSpPr/>
          <p:nvPr/>
        </p:nvSpPr>
        <p:spPr>
          <a:xfrm>
            <a:off x="488880" y="6354720"/>
            <a:ext cx="2171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66"/>
                </a:solidFill>
                <a:latin typeface="Arial"/>
              </a:rPr>
              <a:t>© 2007 Paul Billiet ODWS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Arial"/>
              </a:rPr>
              <a:t>Organizing the pedigree chart</a:t>
            </a:r>
            <a:r>
              <a:rPr b="0" lang="fr-FR" sz="4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41320" y="1904760"/>
            <a:ext cx="76932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edigree chart of a family showing 20 individu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793800" y="2771640"/>
            <a:ext cx="7288920" cy="3673080"/>
            <a:chOff x="793800" y="2771640"/>
            <a:chExt cx="7288920" cy="3673080"/>
          </a:xfrm>
        </p:grpSpPr>
        <p:grpSp>
          <p:nvGrpSpPr>
            <p:cNvPr id="133" name=""/>
            <p:cNvGrpSpPr/>
            <p:nvPr/>
          </p:nvGrpSpPr>
          <p:grpSpPr>
            <a:xfrm>
              <a:off x="2359080" y="2873520"/>
              <a:ext cx="5723640" cy="3571200"/>
              <a:chOff x="2359080" y="2873520"/>
              <a:chExt cx="5723640" cy="3571200"/>
            </a:xfrm>
          </p:grpSpPr>
          <p:sp>
            <p:nvSpPr>
              <p:cNvPr id="134" name=""/>
              <p:cNvSpPr/>
              <p:nvPr/>
            </p:nvSpPr>
            <p:spPr>
              <a:xfrm>
                <a:off x="3930120" y="3513600"/>
                <a:ext cx="0" cy="488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2359080" y="2873520"/>
                <a:ext cx="5723640" cy="3571200"/>
                <a:chOff x="2359080" y="2873520"/>
                <a:chExt cx="5723640" cy="3571200"/>
              </a:xfrm>
            </p:grpSpPr>
            <p:sp>
              <p:nvSpPr>
                <p:cNvPr id="136" name=""/>
                <p:cNvSpPr/>
                <p:nvPr/>
              </p:nvSpPr>
              <p:spPr>
                <a:xfrm flipH="1">
                  <a:off x="3426120" y="4113360"/>
                  <a:ext cx="3938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336666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202920" y="3942720"/>
                  <a:ext cx="295560" cy="3308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66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6298920" y="4077720"/>
                  <a:ext cx="4262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336666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6654960" y="5222880"/>
                  <a:ext cx="3938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336666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5746320" y="5704920"/>
                  <a:ext cx="22323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336666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6862680" y="5234400"/>
                  <a:ext cx="0" cy="488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66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735520" y="5709960"/>
                  <a:ext cx="0" cy="488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66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6316560" y="5716440"/>
                  <a:ext cx="0" cy="488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66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6863760" y="5704920"/>
                  <a:ext cx="0" cy="488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66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7411680" y="5711400"/>
                  <a:ext cx="0" cy="488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66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7957440" y="5716440"/>
                  <a:ext cx="0" cy="488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66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180480" y="6127560"/>
                  <a:ext cx="295920" cy="2955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66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5593320" y="6132960"/>
                  <a:ext cx="295920" cy="2955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66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8600" y="6113880"/>
                  <a:ext cx="295920" cy="33084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66"/>
                    </a:solidFill>
                    <a:latin typeface="Arial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263360" y="6108840"/>
                  <a:ext cx="295920" cy="3308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66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786800" y="6109920"/>
                  <a:ext cx="295920" cy="3308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66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038000" y="5068800"/>
                  <a:ext cx="295920" cy="2955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66"/>
                    </a:solidFill>
                    <a:latin typeface="Arial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3180240" y="4635720"/>
                  <a:ext cx="12466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336666"/>
                    </a:solidFill>
                    <a:latin typeface="Arial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3656520" y="4113360"/>
                  <a:ext cx="0" cy="540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66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180240" y="4635720"/>
                  <a:ext cx="0" cy="523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66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3792600" y="4640760"/>
                  <a:ext cx="0" cy="523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66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4405320" y="4647240"/>
                  <a:ext cx="0" cy="523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66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6682320" y="3942720"/>
                  <a:ext cx="295920" cy="2955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66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6512760" y="4078800"/>
                  <a:ext cx="0" cy="1062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66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6363720" y="5052240"/>
                  <a:ext cx="295920" cy="3312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66"/>
                    </a:solidFill>
                    <a:latin typeface="Arial"/>
                  </a:endParaRPr>
                </a:p>
              </p:txBody>
            </p:sp>
            <p:grpSp>
              <p:nvGrpSpPr>
                <p:cNvPr id="161" name=""/>
                <p:cNvGrpSpPr/>
                <p:nvPr/>
              </p:nvGrpSpPr>
              <p:grpSpPr>
                <a:xfrm>
                  <a:off x="2359080" y="5068800"/>
                  <a:ext cx="969840" cy="331920"/>
                  <a:chOff x="2359080" y="5068800"/>
                  <a:chExt cx="969840" cy="331920"/>
                </a:xfrm>
              </p:grpSpPr>
              <p:sp>
                <p:nvSpPr>
                  <p:cNvPr id="162" name=""/>
                  <p:cNvSpPr/>
                  <p:nvPr/>
                </p:nvSpPr>
                <p:spPr>
                  <a:xfrm>
                    <a:off x="2359080" y="5069880"/>
                    <a:ext cx="295560" cy="330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" name=""/>
                  <p:cNvSpPr/>
                  <p:nvPr/>
                </p:nvSpPr>
                <p:spPr>
                  <a:xfrm>
                    <a:off x="3033000" y="5068800"/>
                    <a:ext cx="295920" cy="2955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2649960" y="5222880"/>
                    <a:ext cx="3938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336666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34200" y="5064480"/>
                  <a:ext cx="295920" cy="3308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66"/>
                    </a:solidFill>
                    <a:latin typeface="Arial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4258440" y="5081400"/>
                  <a:ext cx="295920" cy="2955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66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4866120" y="3026160"/>
                  <a:ext cx="3938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336666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3957480" y="3526200"/>
                  <a:ext cx="22327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336666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5073840" y="3037680"/>
                  <a:ext cx="0" cy="488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66"/>
                    </a:solidFill>
                    <a:latin typeface="Arial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4528080" y="3537360"/>
                  <a:ext cx="0" cy="488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66"/>
                    </a:solidFill>
                    <a:latin typeface="Arial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5074920" y="3526200"/>
                  <a:ext cx="0" cy="488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66"/>
                    </a:solidFill>
                    <a:latin typeface="Arial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5622840" y="3532320"/>
                  <a:ext cx="0" cy="488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66"/>
                    </a:solidFill>
                    <a:latin typeface="Arial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6168960" y="3537360"/>
                  <a:ext cx="0" cy="488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66"/>
                    </a:solidFill>
                    <a:latin typeface="Arial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4391640" y="3948840"/>
                  <a:ext cx="295560" cy="2955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66"/>
                    </a:solidFill>
                    <a:latin typeface="Arial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3804480" y="3953880"/>
                  <a:ext cx="295920" cy="2955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66"/>
                    </a:solidFill>
                    <a:latin typeface="Arial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4920120" y="3935160"/>
                  <a:ext cx="295560" cy="3308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66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5474520" y="3930120"/>
                  <a:ext cx="295920" cy="3308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66"/>
                    </a:solidFill>
                    <a:latin typeface="Arial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5997960" y="3930840"/>
                  <a:ext cx="295920" cy="3308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66"/>
                    </a:solidFill>
                    <a:latin typeface="Arial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4574880" y="2873520"/>
                  <a:ext cx="295920" cy="3308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66"/>
                    </a:solidFill>
                    <a:latin typeface="Arial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5249160" y="2889720"/>
                  <a:ext cx="295920" cy="2955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66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81" name=""/>
            <p:cNvSpPr/>
            <p:nvPr/>
          </p:nvSpPr>
          <p:spPr>
            <a:xfrm>
              <a:off x="848520" y="2771640"/>
              <a:ext cx="443160" cy="40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837720" y="3892680"/>
              <a:ext cx="574200" cy="40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806400" y="5013720"/>
              <a:ext cx="607680" cy="41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93800" y="5961240"/>
              <a:ext cx="59112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</p:grpSp>
      <p:sp>
        <p:nvSpPr>
          <p:cNvPr id="185" name=""/>
          <p:cNvSpPr/>
          <p:nvPr/>
        </p:nvSpPr>
        <p:spPr>
          <a:xfrm>
            <a:off x="488880" y="6354720"/>
            <a:ext cx="2171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66"/>
                </a:solidFill>
                <a:latin typeface="Arial"/>
              </a:rPr>
              <a:t>© 2007 Paul Billiet ODWS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Organizing the pedigree char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0040" y="1672920"/>
            <a:ext cx="8012160" cy="91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lvl="1" marL="713160" indent="-27432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enerations are identified by Roman numerals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905040" y="2604960"/>
            <a:ext cx="7288920" cy="3673080"/>
            <a:chOff x="905040" y="2604960"/>
            <a:chExt cx="7288920" cy="3673080"/>
          </a:xfrm>
        </p:grpSpPr>
        <p:grpSp>
          <p:nvGrpSpPr>
            <p:cNvPr id="189" name=""/>
            <p:cNvGrpSpPr/>
            <p:nvPr/>
          </p:nvGrpSpPr>
          <p:grpSpPr>
            <a:xfrm>
              <a:off x="2470320" y="2706840"/>
              <a:ext cx="5723640" cy="3571200"/>
              <a:chOff x="2470320" y="2706840"/>
              <a:chExt cx="5723640" cy="3571200"/>
            </a:xfrm>
          </p:grpSpPr>
          <p:sp>
            <p:nvSpPr>
              <p:cNvPr id="190" name=""/>
              <p:cNvSpPr/>
              <p:nvPr/>
            </p:nvSpPr>
            <p:spPr>
              <a:xfrm>
                <a:off x="4041360" y="3346920"/>
                <a:ext cx="0" cy="488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grpSp>
            <p:nvGrpSpPr>
              <p:cNvPr id="191" name=""/>
              <p:cNvGrpSpPr/>
              <p:nvPr/>
            </p:nvGrpSpPr>
            <p:grpSpPr>
              <a:xfrm>
                <a:off x="2470320" y="2706840"/>
                <a:ext cx="5723640" cy="3571200"/>
                <a:chOff x="2470320" y="2706840"/>
                <a:chExt cx="5723640" cy="3571200"/>
              </a:xfrm>
            </p:grpSpPr>
            <p:sp>
              <p:nvSpPr>
                <p:cNvPr id="192" name=""/>
                <p:cNvSpPr/>
                <p:nvPr/>
              </p:nvSpPr>
              <p:spPr>
                <a:xfrm flipH="1">
                  <a:off x="3537360" y="3946680"/>
                  <a:ext cx="3938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336666"/>
                    </a:solidFill>
                    <a:latin typeface="Arial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3314160" y="3776040"/>
                  <a:ext cx="295560" cy="3308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66"/>
                    </a:solidFill>
                    <a:latin typeface="Arial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6410160" y="3911040"/>
                  <a:ext cx="4262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336666"/>
                    </a:solidFill>
                    <a:latin typeface="Arial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6766200" y="5056200"/>
                  <a:ext cx="3938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336666"/>
                    </a:solidFill>
                    <a:latin typeface="Arial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5857560" y="5538240"/>
                  <a:ext cx="22323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336666"/>
                    </a:solidFill>
                    <a:latin typeface="Arial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6973920" y="5067720"/>
                  <a:ext cx="0" cy="488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66"/>
                    </a:solidFill>
                    <a:latin typeface="Arial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5846760" y="5543280"/>
                  <a:ext cx="0" cy="488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66"/>
                    </a:solidFill>
                    <a:latin typeface="Arial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6427800" y="5549760"/>
                  <a:ext cx="0" cy="488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66"/>
                    </a:solidFill>
                    <a:latin typeface="Arial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6975000" y="5538240"/>
                  <a:ext cx="0" cy="488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66"/>
                    </a:solidFill>
                    <a:latin typeface="Arial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7522920" y="5544720"/>
                  <a:ext cx="0" cy="488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66"/>
                    </a:solidFill>
                    <a:latin typeface="Arial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8068680" y="5549760"/>
                  <a:ext cx="0" cy="488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66"/>
                    </a:solidFill>
                    <a:latin typeface="Arial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6291720" y="5960880"/>
                  <a:ext cx="295920" cy="2955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66"/>
                    </a:solidFill>
                    <a:latin typeface="Arial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5704560" y="5966280"/>
                  <a:ext cx="295920" cy="2955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66"/>
                    </a:solidFill>
                    <a:latin typeface="Arial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6819840" y="5947200"/>
                  <a:ext cx="295920" cy="33084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66"/>
                    </a:solidFill>
                    <a:latin typeface="Arial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7374600" y="5942160"/>
                  <a:ext cx="295920" cy="3308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66"/>
                    </a:solidFill>
                    <a:latin typeface="Arial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7898040" y="5943240"/>
                  <a:ext cx="295920" cy="3308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66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7149240" y="4902120"/>
                  <a:ext cx="295920" cy="2955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66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3291480" y="4469040"/>
                  <a:ext cx="12466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336666"/>
                    </a:solidFill>
                    <a:latin typeface="Arial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3767760" y="3946680"/>
                  <a:ext cx="0" cy="540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66"/>
                    </a:solidFill>
                    <a:latin typeface="Arial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3291480" y="4469040"/>
                  <a:ext cx="0" cy="523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66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3903840" y="4474080"/>
                  <a:ext cx="0" cy="523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66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4516560" y="4480560"/>
                  <a:ext cx="0" cy="523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66"/>
                    </a:solidFill>
                    <a:latin typeface="Arial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6793560" y="3776040"/>
                  <a:ext cx="295920" cy="2955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66"/>
                    </a:solidFill>
                    <a:latin typeface="Arial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624000" y="3912120"/>
                  <a:ext cx="0" cy="1062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66"/>
                    </a:solidFill>
                    <a:latin typeface="Arial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6474960" y="4885560"/>
                  <a:ext cx="295920" cy="3312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66"/>
                    </a:solidFill>
                    <a:latin typeface="Arial"/>
                  </a:endParaRPr>
                </a:p>
              </p:txBody>
            </p:sp>
            <p:grpSp>
              <p:nvGrpSpPr>
                <p:cNvPr id="217" name=""/>
                <p:cNvGrpSpPr/>
                <p:nvPr/>
              </p:nvGrpSpPr>
              <p:grpSpPr>
                <a:xfrm>
                  <a:off x="2470320" y="4902120"/>
                  <a:ext cx="969840" cy="331920"/>
                  <a:chOff x="2470320" y="4902120"/>
                  <a:chExt cx="969840" cy="331920"/>
                </a:xfrm>
              </p:grpSpPr>
              <p:sp>
                <p:nvSpPr>
                  <p:cNvPr id="218" name=""/>
                  <p:cNvSpPr/>
                  <p:nvPr/>
                </p:nvSpPr>
                <p:spPr>
                  <a:xfrm>
                    <a:off x="2470320" y="4903200"/>
                    <a:ext cx="295560" cy="330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9" name=""/>
                  <p:cNvSpPr/>
                  <p:nvPr/>
                </p:nvSpPr>
                <p:spPr>
                  <a:xfrm>
                    <a:off x="3144240" y="4902120"/>
                    <a:ext cx="295920" cy="2955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0" name=""/>
                  <p:cNvSpPr/>
                  <p:nvPr/>
                </p:nvSpPr>
                <p:spPr>
                  <a:xfrm>
                    <a:off x="2761200" y="5056200"/>
                    <a:ext cx="3938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336666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1" name=""/>
                <p:cNvSpPr/>
                <p:nvPr/>
              </p:nvSpPr>
              <p:spPr>
                <a:xfrm>
                  <a:off x="3745440" y="4897800"/>
                  <a:ext cx="295920" cy="3308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66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4369680" y="4914720"/>
                  <a:ext cx="295920" cy="2955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66"/>
                    </a:solidFill>
                    <a:latin typeface="Arial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4977360" y="2859480"/>
                  <a:ext cx="3938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336666"/>
                    </a:solidFill>
                    <a:latin typeface="Arial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4068720" y="3359520"/>
                  <a:ext cx="22327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336666"/>
                    </a:solidFill>
                    <a:latin typeface="Arial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5185080" y="2871000"/>
                  <a:ext cx="0" cy="488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66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4639320" y="3370680"/>
                  <a:ext cx="0" cy="488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66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5186160" y="3359520"/>
                  <a:ext cx="0" cy="488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66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5734080" y="3365640"/>
                  <a:ext cx="0" cy="488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66"/>
                    </a:solidFill>
                    <a:latin typeface="Arial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6280200" y="3370680"/>
                  <a:ext cx="0" cy="488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66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4502880" y="3782160"/>
                  <a:ext cx="295560" cy="2955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66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3915720" y="3787200"/>
                  <a:ext cx="295920" cy="2955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66"/>
                    </a:solidFill>
                    <a:latin typeface="Arial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5031360" y="3768480"/>
                  <a:ext cx="295560" cy="3308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66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5585760" y="3763440"/>
                  <a:ext cx="295920" cy="3308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66"/>
                    </a:solidFill>
                    <a:latin typeface="Arial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6109200" y="3764160"/>
                  <a:ext cx="295920" cy="3308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66"/>
                    </a:solidFill>
                    <a:latin typeface="Arial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4686120" y="2706840"/>
                  <a:ext cx="295920" cy="3308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66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5360400" y="2723040"/>
                  <a:ext cx="295920" cy="2955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66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37" name=""/>
            <p:cNvSpPr/>
            <p:nvPr/>
          </p:nvSpPr>
          <p:spPr>
            <a:xfrm>
              <a:off x="959760" y="2604960"/>
              <a:ext cx="443160" cy="40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948960" y="3726000"/>
              <a:ext cx="574200" cy="40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ff0000"/>
                  </a:solidFill>
                  <a:latin typeface="Times New Roman"/>
                </a:rPr>
                <a:t>II</a:t>
              </a:r>
              <a:endParaRPr b="0" lang="en-US" sz="24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917640" y="4847040"/>
              <a:ext cx="607680" cy="41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ff0000"/>
                  </a:solidFill>
                  <a:latin typeface="Times New Roman"/>
                </a:rPr>
                <a:t>III</a:t>
              </a:r>
              <a:endParaRPr b="0" lang="en-US" sz="24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905040" y="5794560"/>
              <a:ext cx="59112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ff0000"/>
                  </a:solidFill>
                  <a:latin typeface="Times New Roman"/>
                </a:rPr>
                <a:t>IV</a:t>
              </a:r>
              <a:endParaRPr b="0" lang="en-US" sz="2400" spc="-1" strike="noStrike">
                <a:solidFill>
                  <a:srgbClr val="336666"/>
                </a:solidFill>
                <a:latin typeface="Arial"/>
              </a:endParaRPr>
            </a:p>
          </p:txBody>
        </p:sp>
      </p:grpSp>
      <p:sp>
        <p:nvSpPr>
          <p:cNvPr id="241" name=""/>
          <p:cNvSpPr/>
          <p:nvPr/>
        </p:nvSpPr>
        <p:spPr>
          <a:xfrm>
            <a:off x="488880" y="6431040"/>
            <a:ext cx="2171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66"/>
                </a:solidFill>
                <a:latin typeface="Arial"/>
              </a:rPr>
              <a:t>© 2007 Paul Billiet ODWS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Arial"/>
              </a:rPr>
              <a:t>Organizing the pedigree char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568520"/>
            <a:ext cx="839484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ividuals in each generation are identified by Arabic numerals numbered from the le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fore the affected individuals ar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I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V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V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915840" y="2771640"/>
            <a:ext cx="7289280" cy="3673080"/>
            <a:chOff x="915840" y="2771640"/>
            <a:chExt cx="7289280" cy="3673080"/>
          </a:xfrm>
        </p:grpSpPr>
        <p:grpSp>
          <p:nvGrpSpPr>
            <p:cNvPr id="245" name=""/>
            <p:cNvGrpSpPr/>
            <p:nvPr/>
          </p:nvGrpSpPr>
          <p:grpSpPr>
            <a:xfrm>
              <a:off x="2481120" y="2873520"/>
              <a:ext cx="5724000" cy="3571200"/>
              <a:chOff x="2481120" y="2873520"/>
              <a:chExt cx="5724000" cy="3571200"/>
            </a:xfrm>
          </p:grpSpPr>
          <p:sp>
            <p:nvSpPr>
              <p:cNvPr id="246" name=""/>
              <p:cNvSpPr/>
              <p:nvPr/>
            </p:nvSpPr>
            <p:spPr>
              <a:xfrm>
                <a:off x="4052160" y="3513600"/>
                <a:ext cx="0" cy="488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grpSp>
            <p:nvGrpSpPr>
              <p:cNvPr id="247" name=""/>
              <p:cNvGrpSpPr/>
              <p:nvPr/>
            </p:nvGrpSpPr>
            <p:grpSpPr>
              <a:xfrm>
                <a:off x="2481120" y="2873520"/>
                <a:ext cx="5724000" cy="3571200"/>
                <a:chOff x="2481120" y="2873520"/>
                <a:chExt cx="5724000" cy="3571200"/>
              </a:xfrm>
            </p:grpSpPr>
            <p:sp>
              <p:nvSpPr>
                <p:cNvPr id="248" name=""/>
                <p:cNvSpPr/>
                <p:nvPr/>
              </p:nvSpPr>
              <p:spPr>
                <a:xfrm flipH="1">
                  <a:off x="3548520" y="4113360"/>
                  <a:ext cx="3938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336666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3324960" y="3942720"/>
                  <a:ext cx="295560" cy="3308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66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6421320" y="4077720"/>
                  <a:ext cx="4262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336666"/>
                    </a:solidFill>
                    <a:latin typeface="Arial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6777360" y="5222880"/>
                  <a:ext cx="3938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336666"/>
                    </a:solidFill>
                    <a:latin typeface="Arial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5868720" y="5704920"/>
                  <a:ext cx="22327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336666"/>
                    </a:solidFill>
                    <a:latin typeface="Arial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6985080" y="5234400"/>
                  <a:ext cx="0" cy="488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66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5857560" y="5709960"/>
                  <a:ext cx="0" cy="488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66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>
                  <a:off x="6438960" y="5716440"/>
                  <a:ext cx="0" cy="488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66"/>
                    </a:solidFill>
                    <a:latin typeface="Arial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6986160" y="5704920"/>
                  <a:ext cx="0" cy="488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66"/>
                    </a:solidFill>
                    <a:latin typeface="Arial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7534080" y="5711400"/>
                  <a:ext cx="0" cy="488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66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8079840" y="5716440"/>
                  <a:ext cx="0" cy="488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66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302520" y="6127560"/>
                  <a:ext cx="295920" cy="2955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66"/>
                    </a:solidFill>
                    <a:latin typeface="Arial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5715720" y="6132960"/>
                  <a:ext cx="295920" cy="2955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66"/>
                    </a:solidFill>
                    <a:latin typeface="Arial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6831000" y="6113880"/>
                  <a:ext cx="295920" cy="33084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66"/>
                    </a:solidFill>
                    <a:latin typeface="Arial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7385760" y="6108840"/>
                  <a:ext cx="295920" cy="3308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66"/>
                    </a:solidFill>
                    <a:latin typeface="Arial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7909200" y="6109920"/>
                  <a:ext cx="295920" cy="3308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66"/>
                    </a:solidFill>
                    <a:latin typeface="Arial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7160400" y="5068800"/>
                  <a:ext cx="295920" cy="2955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66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3302280" y="4635720"/>
                  <a:ext cx="12466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336666"/>
                    </a:solidFill>
                    <a:latin typeface="Arial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3778560" y="4113360"/>
                  <a:ext cx="0" cy="540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66"/>
                    </a:solidFill>
                    <a:latin typeface="Arial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3302280" y="4635720"/>
                  <a:ext cx="0" cy="523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66"/>
                    </a:solidFill>
                    <a:latin typeface="Arial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3915000" y="4640760"/>
                  <a:ext cx="0" cy="523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66"/>
                    </a:solidFill>
                    <a:latin typeface="Arial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4527360" y="4647240"/>
                  <a:ext cx="0" cy="523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66"/>
                    </a:solidFill>
                    <a:latin typeface="Arial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04720" y="3942720"/>
                  <a:ext cx="295920" cy="2955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66"/>
                    </a:solidFill>
                    <a:latin typeface="Arial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6635160" y="4078800"/>
                  <a:ext cx="0" cy="1062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66"/>
                    </a:solidFill>
                    <a:latin typeface="Arial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6486120" y="5052240"/>
                  <a:ext cx="295920" cy="3312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66"/>
                    </a:solidFill>
                    <a:latin typeface="Arial"/>
                  </a:endParaRPr>
                </a:p>
              </p:txBody>
            </p:sp>
            <p:grpSp>
              <p:nvGrpSpPr>
                <p:cNvPr id="273" name=""/>
                <p:cNvGrpSpPr/>
                <p:nvPr/>
              </p:nvGrpSpPr>
              <p:grpSpPr>
                <a:xfrm>
                  <a:off x="2481120" y="5068800"/>
                  <a:ext cx="969840" cy="331920"/>
                  <a:chOff x="2481120" y="5068800"/>
                  <a:chExt cx="969840" cy="331920"/>
                </a:xfrm>
              </p:grpSpPr>
              <p:sp>
                <p:nvSpPr>
                  <p:cNvPr id="274" name=""/>
                  <p:cNvSpPr/>
                  <p:nvPr/>
                </p:nvSpPr>
                <p:spPr>
                  <a:xfrm>
                    <a:off x="2481120" y="5069880"/>
                    <a:ext cx="295560" cy="330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>
                    <a:off x="3155040" y="5068800"/>
                    <a:ext cx="295920" cy="2955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"/>
                  <p:cNvSpPr/>
                  <p:nvPr/>
                </p:nvSpPr>
                <p:spPr>
                  <a:xfrm>
                    <a:off x="2772000" y="5222880"/>
                    <a:ext cx="3938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336666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"/>
                <p:cNvSpPr/>
                <p:nvPr/>
              </p:nvSpPr>
              <p:spPr>
                <a:xfrm>
                  <a:off x="3756240" y="5064480"/>
                  <a:ext cx="295920" cy="3308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66"/>
                    </a:solidFill>
                    <a:latin typeface="Arial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4380480" y="5081400"/>
                  <a:ext cx="295920" cy="2955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66"/>
                    </a:solidFill>
                    <a:latin typeface="Arial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4988160" y="3026160"/>
                  <a:ext cx="3938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336666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4079520" y="3526200"/>
                  <a:ext cx="22327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336666"/>
                    </a:solidFill>
                    <a:latin typeface="Arial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5196240" y="3037680"/>
                  <a:ext cx="0" cy="488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66"/>
                    </a:solidFill>
                    <a:latin typeface="Arial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4650120" y="3537360"/>
                  <a:ext cx="0" cy="488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66"/>
                    </a:solidFill>
                    <a:latin typeface="Arial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5196960" y="3526200"/>
                  <a:ext cx="0" cy="488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66"/>
                    </a:solidFill>
                    <a:latin typeface="Arial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5744880" y="3532320"/>
                  <a:ext cx="0" cy="488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66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6291000" y="3537360"/>
                  <a:ext cx="0" cy="488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66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514040" y="3948840"/>
                  <a:ext cx="295560" cy="2955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66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3926520" y="3953880"/>
                  <a:ext cx="295920" cy="2955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66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042160" y="3935160"/>
                  <a:ext cx="295560" cy="3308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66"/>
                    </a:solidFill>
                    <a:latin typeface="Arial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>
                  <a:off x="5596920" y="3930120"/>
                  <a:ext cx="295920" cy="3308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66"/>
                    </a:solidFill>
                    <a:latin typeface="Arial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6120360" y="3930840"/>
                  <a:ext cx="295920" cy="3308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66"/>
                    </a:solidFill>
                    <a:latin typeface="Arial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>
                  <a:off x="4697280" y="2873520"/>
                  <a:ext cx="295920" cy="3308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66"/>
                    </a:solidFill>
                    <a:latin typeface="Arial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5371560" y="2889720"/>
                  <a:ext cx="295920" cy="2955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66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93" name=""/>
            <p:cNvSpPr/>
            <p:nvPr/>
          </p:nvSpPr>
          <p:spPr>
            <a:xfrm>
              <a:off x="970560" y="2771640"/>
              <a:ext cx="443160" cy="40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336666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959760" y="3892680"/>
              <a:ext cx="574200" cy="40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336666"/>
                  </a:solidFill>
                  <a:latin typeface="Times New Roman"/>
                </a:rPr>
                <a:t>II</a:t>
              </a:r>
              <a:endParaRPr b="0" lang="en-US" sz="24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928440" y="5013720"/>
              <a:ext cx="607680" cy="41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336666"/>
                  </a:solidFill>
                  <a:latin typeface="Times New Roman"/>
                </a:rPr>
                <a:t>III</a:t>
              </a:r>
              <a:endParaRPr b="0" lang="en-US" sz="24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915840" y="5961240"/>
              <a:ext cx="59112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336666"/>
                  </a:solidFill>
                  <a:latin typeface="Times New Roman"/>
                </a:rPr>
                <a:t>IV</a:t>
              </a:r>
              <a:endParaRPr b="0" lang="en-US" sz="2400" spc="-1" strike="noStrike">
                <a:solidFill>
                  <a:srgbClr val="336666"/>
                </a:solidFill>
                <a:latin typeface="Arial"/>
              </a:endParaRPr>
            </a:p>
          </p:txBody>
        </p:sp>
      </p:grpSp>
      <p:sp>
        <p:nvSpPr>
          <p:cNvPr id="297" name=""/>
          <p:cNvSpPr/>
          <p:nvPr/>
        </p:nvSpPr>
        <p:spPr>
          <a:xfrm>
            <a:off x="488880" y="6488280"/>
            <a:ext cx="2171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66"/>
                </a:solidFill>
                <a:latin typeface="Arial"/>
              </a:rPr>
              <a:t>© 2007 Paul Billiet ODWS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1T08:35:01Z</dcterms:created>
  <dc:creator>Billiet</dc:creator>
  <dc:description/>
  <dc:language>en-US</dc:language>
  <cp:lastModifiedBy>Cumberland County Schools</cp:lastModifiedBy>
  <dcterms:modified xsi:type="dcterms:W3CDTF">2011-03-18T13:21:57Z</dcterms:modified>
  <cp:revision>9</cp:revision>
  <dc:subject/>
  <dc:title>PEDIGREE CHARTS </dc:title>
</cp:coreProperties>
</file>